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1.wmf" ContentType="image/x-wmf"/>
  <Override PartName="/ppt/media/image3.png" ContentType="image/png"/>
  <Override PartName="/ppt/media/image17.jpeg" ContentType="image/jpeg"/>
  <Override PartName="/ppt/media/image26.png" ContentType="image/png"/>
  <Override PartName="/ppt/media/image9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6.jpeg" ContentType="image/jpeg"/>
  <Override PartName="/ppt/media/image5.wmf" ContentType="image/x-wmf"/>
  <Override PartName="/ppt/media/image10.png" ContentType="image/png"/>
  <Override PartName="/ppt/media/image27.png" ContentType="image/png"/>
  <Override PartName="/ppt/media/image15.png" ContentType="image/png"/>
  <Override PartName="/ppt/media/image25.png" ContentType="image/png"/>
  <Override PartName="/ppt/media/image22.png" ContentType="image/png"/>
  <Override PartName="/ppt/media/image4.wmf" ContentType="image/x-wmf"/>
  <Override PartName="/ppt/media/image19.png" ContentType="image/png"/>
  <Override PartName="/ppt/media/image16.jpeg" ContentType="image/jpeg"/>
  <Override PartName="/ppt/media/image14.jpeg" ContentType="image/jpeg"/>
  <Override PartName="/ppt/media/image21.gif" ContentType="image/gif"/>
  <Override PartName="/ppt/media/image1.png" ContentType="image/png"/>
  <Override PartName="/ppt/media/image24.png" ContentType="image/png"/>
  <Override PartName="/ppt/media/image2.wmf" ContentType="image/x-wmf"/>
  <Override PartName="/ppt/media/image7.jpeg" ContentType="image/jpeg"/>
  <Override PartName="/ppt/media/image18.png" ContentType="image/png"/>
  <Override PartName="/ppt/media/image2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F276-FEEC-4206-A88B-0B56FD00D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F060-3145-460B-878A-3EE07CEC1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192B-796C-45A1-8377-4CCA3B489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EAB0-3494-431C-8034-16B8AB719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F8469-ED61-4401-AC10-78EDBF10D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2932F-AF10-4201-B714-D25189DEA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802EE-253E-4F16-A4CA-64DC1A811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9B434-1EDE-4898-91BA-8B925377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6AD31-C61C-4DFE-B2D3-163B92DBF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4A99E-F9E7-4229-957B-1B35D5356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0F5A4-7AC0-41B5-92B8-633811D2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19AD-7B00-4B7F-8C56-105C45AC6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64D28-4255-43B3-A196-3867D703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785E0-1904-43FC-8E3E-2CBE598F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4F301-AD3A-4B43-BF8B-3ACF71E2D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A9085-34D6-4DEF-8DE4-24007C330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67250-08AA-4362-B435-2EC888FA0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932D-FF9A-434C-A842-5718DA89A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8E79-CD50-49A6-B022-CE51DE792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D822-6EC1-48A4-A9AF-941DD8B08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6AD4-BA8E-42C6-8A24-9BB635DB0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FDC3-9B91-4555-91C2-A9E0D393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4894-6688-4730-9C3A-78E10FD5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1241-2E06-4152-9765-2BC5BD4A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FC564-A94E-46E5-BA27-71E8E6FD591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B3342-83BF-404F-B59D-770E98F3A58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itesatlas.com/Atlas/PolAtlas/polnav.nvm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-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Geography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Picture 4" descr="polna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1600200" y="1676520"/>
            <a:ext cx="10744200" cy="47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ich geographic factor has often made Korea a key region for those seeking to control East Asia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1) long coastline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3) mountai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2) location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4) clima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228600" y="0"/>
            <a:ext cx="5867280" cy="41292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171840" y="533160"/>
            <a:ext cx="2438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11 Which statement about the trip taken by Emperor Mansa Musa is accurate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1) The trip extended beyond North African trade routes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2) Mansa Musa used the Mediterranean Sea to reach Mecca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3) The route primarily followed major rivers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4) Mansa Musa traveled to Fez on his way to Mecca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762120" y="457200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2 Which conclusion about trade is best supported by the information on this map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1) Timbuktu was a center of trade in West Africa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2) The Sahara Desert prevented trad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3) Cairo and Mecca were trading partner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4) West African gold and salt were traded along the Zaire River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1981080" y="457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gyp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5" name="Picture 5" descr="delta"/>
          <p:cNvPicPr/>
          <p:nvPr/>
        </p:nvPicPr>
        <p:blipFill>
          <a:blip r:embed="rId1"/>
          <a:stretch/>
        </p:blipFill>
        <p:spPr>
          <a:xfrm>
            <a:off x="685800" y="2362320"/>
            <a:ext cx="4114800" cy="38005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egyptmap"/>
          <p:cNvPicPr/>
          <p:nvPr/>
        </p:nvPicPr>
        <p:blipFill>
          <a:blip r:embed="rId2"/>
          <a:stretch/>
        </p:blipFill>
        <p:spPr>
          <a:xfrm>
            <a:off x="5867280" y="533520"/>
            <a:ext cx="2689200" cy="55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ey Terms for Essay on Egyp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serts – “Red Lands” – Nubian, Libyan, and Sahar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ile River – “Black Lands” surround w/silt; floods annually – need to build irrigation, has cataracts (waterfalls), delta (tributaries protect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mpact – protects, stability of dynasties, need for strong central authority, culture based on Nile “Land of Living” vs. “Land of Dead”, architecture of sandstone, papyrus for books; build Aswan High Dam (no oil); Suez Canal built to capitalize on strategic location btw Mediterranean and Red sea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ich geographic feature had the greatest influence on the development of ancient civilizations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nse fores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untain pass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mooth coastlin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iver valley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Suez Canal, the Strait of Hormuz, and the Strait of Gibraltar are important because they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event attacks on bordering nation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trol access to vital trade route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imit Russian access to warm-water point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hibit the movement of ships carrying nuclear weapon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esopotam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4" name="Picture 7" descr="map01mes"/>
          <p:cNvPicPr/>
          <p:nvPr/>
        </p:nvPicPr>
        <p:blipFill>
          <a:blip r:embed="rId1"/>
          <a:stretch/>
        </p:blipFill>
        <p:spPr>
          <a:xfrm>
            <a:off x="609480" y="1600200"/>
            <a:ext cx="7848720" cy="50227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195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ey Term for Mesopotam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ertile Crescent – two rivers:  Tigris and Euphrat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lood erratically – need to build dams and dyk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asy to navigate rivers – lots of invasions, cultural diffusion, political instabili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hin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9" name="Picture 5" descr="map"/>
          <p:cNvPicPr/>
          <p:nvPr/>
        </p:nvPicPr>
        <p:blipFill>
          <a:blip r:embed="rId1"/>
          <a:stretch/>
        </p:blipFill>
        <p:spPr>
          <a:xfrm>
            <a:off x="838080" y="1371600"/>
            <a:ext cx="746784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ey Terms for Chin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THNOCENTRISM – caused by geographic barriers – Gobi Desert, Tien Shen Mts., Himalayas, Pacific Ocea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ivers – Yellow (Huange-He) “River of Sorrow” – heavy silt, cut deep into mts; Yangtze – both rivers flow west to eas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daptations – Silk Road, Great Wall, Grand Canal, terrace farming along Yellow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91540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ich statement best describes an impact of geography on the history of the Korean peninsula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rge deserts have led to isol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ocation has led to invasion and occupation by other n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ck of rivers has limited food productio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ck of natural resources has prevented development of manufacturing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d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5" name="Picture 5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59436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ey Terms on Ind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ub-continent of Asi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eninsul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onso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dus River – navigable (similar to Tigri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indu-Kush mts and Himalayas protect and isolat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ccan plateau – center – inhospitable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ots of trade in Indian Ocea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ailroad handy to unite large landmas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 India, Bangladesh and much of Southeast Asia, agricultural productivity is most affected by th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asonal monso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navigable riv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umerous deser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ld climat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114800" y="1599840"/>
            <a:ext cx="4572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ich generalization is best supported by the information on this map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(1) No trade occurred between East Africa and the Persian Gulf regio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(2) The monsoon winds influenced trade between East Africa and India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(3) Trading states developed primarily in the interior of East Africa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(4) Trade encouraged the spread of Islam from East Africa to Arabia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2" name="Picture 4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2651040" cy="52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ee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4" name="Picture 5" descr=""/>
          <p:cNvPicPr/>
          <p:nvPr/>
        </p:nvPicPr>
        <p:blipFill>
          <a:blip r:embed="rId1"/>
          <a:stretch/>
        </p:blipFill>
        <p:spPr>
          <a:xfrm>
            <a:off x="2428920" y="1712880"/>
            <a:ext cx="428616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ey Terms on Gree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olis/Poleis will be divided by mountai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reat natural harbors for fishing and trade; strength of military is triremes for Athens not hoplit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ew natural rivers/springs – need to import food – coloni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olcanic area – angry gods (land and sea – Zeus/Poseidon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ich volcanic soil good for olives and grap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ich was one cause of the development of many small independent city-states in ancient Greece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reece and Rome were often at W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mountainous terrain of Greece resulted in widely scattered settlemen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ilitary leaders found small Greek settlements easy to contro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Greek people had many different languages and relig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oman Empi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0" name="Picture 5" descr="Map of the Roman Empire at its height"/>
          <p:cNvPicPr/>
          <p:nvPr/>
        </p:nvPicPr>
        <p:blipFill>
          <a:blip r:embed="rId1"/>
          <a:stretch/>
        </p:blipFill>
        <p:spPr>
          <a:xfrm>
            <a:off x="1371600" y="1828800"/>
            <a:ext cx="678168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ey Terms for Roman Empi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aly is Peninsul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panded over three continents around Mediterranean Se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 large – Roman legions need to build roads, aqueducts, bridges, wall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868680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yzantine Empi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4" name="Picture 5" descr="declinebyzantine.jpg (61873 bytes)"/>
          <p:cNvPicPr/>
          <p:nvPr/>
        </p:nvPicPr>
        <p:blipFill>
          <a:blip r:embed="rId1"/>
          <a:stretch/>
        </p:blipFill>
        <p:spPr>
          <a:xfrm>
            <a:off x="1066680" y="1447920"/>
            <a:ext cx="7162920" cy="54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can Empi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6" name="Picture 5" descr="map of Inca Empire"/>
          <p:cNvPicPr/>
          <p:nvPr/>
        </p:nvPicPr>
        <p:blipFill>
          <a:blip r:embed="rId1"/>
          <a:stretch/>
        </p:blipFill>
        <p:spPr>
          <a:xfrm>
            <a:off x="685800" y="1219320"/>
            <a:ext cx="2633760" cy="56386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MachuPicchu03"/>
          <p:cNvPicPr/>
          <p:nvPr/>
        </p:nvPicPr>
        <p:blipFill>
          <a:blip r:embed="rId2"/>
          <a:stretch/>
        </p:blipFill>
        <p:spPr>
          <a:xfrm>
            <a:off x="4648320" y="1600200"/>
            <a:ext cx="35049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ey Terms for Inc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des Mountai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can Trail w/suspension bridg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rrace farm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ztec Empi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1" name="Picture 5" descr="Aztec Chinampas"/>
          <p:cNvPicPr/>
          <p:nvPr/>
        </p:nvPicPr>
        <p:blipFill>
          <a:blip r:embed="rId1"/>
          <a:stretch/>
        </p:blipFill>
        <p:spPr>
          <a:xfrm>
            <a:off x="457200" y="2362320"/>
            <a:ext cx="4038480" cy="30067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mitenoch"/>
          <p:cNvPicPr/>
          <p:nvPr/>
        </p:nvPicPr>
        <p:blipFill>
          <a:blip r:embed="rId2"/>
          <a:stretch/>
        </p:blipFill>
        <p:spPr>
          <a:xfrm>
            <a:off x="4648320" y="2286000"/>
            <a:ext cx="4343400" cy="312588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9"/>
          <p:cNvSpPr/>
          <p:nvPr/>
        </p:nvSpPr>
        <p:spPr>
          <a:xfrm>
            <a:off x="838080" y="54864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hinampa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 effect of a mountainous topography on Inca and Chinese civilizations was the development of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dustrialization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ngle-crop economy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salinization project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rrace farming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ich generalization about geography of Latin America is accurate?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eographic features prevented foreign imperialism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arsh climatic conditions have prevented the development of large-scale agricultur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lack of geographic barriers facilitated the development of transportation and communication system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reat variations in latitude and landforms resulted in a diversity of climate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fric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9" name="Picture 8" descr="Larick3"/>
          <p:cNvPicPr/>
          <p:nvPr/>
        </p:nvPicPr>
        <p:blipFill>
          <a:blip r:embed="rId1"/>
          <a:stretch/>
        </p:blipFill>
        <p:spPr>
          <a:xfrm>
            <a:off x="304920" y="2057400"/>
            <a:ext cx="4038480" cy="28368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0" descr="afr"/>
          <p:cNvPicPr/>
          <p:nvPr/>
        </p:nvPicPr>
        <p:blipFill>
          <a:blip r:embed="rId2"/>
          <a:stretch/>
        </p:blipFill>
        <p:spPr>
          <a:xfrm>
            <a:off x="4648320" y="1630440"/>
            <a:ext cx="449568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ey Terms for Afric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serts – Sahara (north), Kalahari in south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tinent is plateau – all rivers (Nile and Congo) have catarac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avannahs – high grasses where animals live – hard to farm, little urbanization, dispersed trib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ainforest (Congo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atural resources – gold, diamonds, rubber – needs sal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ivingstone will map out countr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4" name="Picture 4" descr="gstr"/>
          <p:cNvPicPr/>
          <p:nvPr/>
        </p:nvPicPr>
        <p:blipFill>
          <a:blip r:embed="rId1"/>
          <a:stretch/>
        </p:blipFill>
        <p:spPr>
          <a:xfrm>
            <a:off x="533520" y="2209680"/>
            <a:ext cx="3886200" cy="34084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Bantu Migration"/>
          <p:cNvPicPr/>
          <p:nvPr/>
        </p:nvPicPr>
        <p:blipFill>
          <a:blip r:embed="rId2"/>
          <a:stretch/>
        </p:blipFill>
        <p:spPr>
          <a:xfrm>
            <a:off x="4738680" y="1936800"/>
            <a:ext cx="385776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ich statement about the geography of Africa is most accurate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uch of the land in Africa is below sea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variety of geographic barriers had served to promote cultural diversit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frica had an irregular coastline with many natural harbo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uch of the land in Africa is tundra and fores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ther Essay Top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w has a region’s geography shaped its history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w has man adapted his environment to shape his needs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 Africa, an effect of topography and climate has been to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courage rapid industrialization of the interior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event the development of kingdom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mote large-scale trade between African and Asia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mote the growth of diverse societie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apa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1" name="Picture 5" descr="Nara and Heian Japan"/>
          <p:cNvPicPr/>
          <p:nvPr/>
        </p:nvPicPr>
        <p:blipFill>
          <a:blip r:embed="rId1"/>
          <a:stretch/>
        </p:blipFill>
        <p:spPr>
          <a:xfrm>
            <a:off x="609480" y="1981080"/>
            <a:ext cx="2914920" cy="37245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0" descr="seasia"/>
          <p:cNvPicPr/>
          <p:nvPr/>
        </p:nvPicPr>
        <p:blipFill>
          <a:blip r:embed="rId2"/>
          <a:stretch/>
        </p:blipFill>
        <p:spPr>
          <a:xfrm>
            <a:off x="4876920" y="2057400"/>
            <a:ext cx="3817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ey Terms on Japa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rchipelag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ountains (Fuji) – forced to terrace far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olcanic/Tsunami – nature spirits (kami) worshiped in Shinto relig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tected by location and kamikaze winds (Mongol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sed Korea as landbridge to Chin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cks natural resources – forced to imperialize to gain resources during Meiji Restor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 Japan, a major economic problem has been the lack of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atural resource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vestment capital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killed labor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perienced management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ngla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8" name="Picture 5" descr="imperialism"/>
          <p:cNvPicPr/>
          <p:nvPr/>
        </p:nvPicPr>
        <p:blipFill>
          <a:blip r:embed="rId1"/>
          <a:stretch/>
        </p:blipFill>
        <p:spPr>
          <a:xfrm>
            <a:off x="1828800" y="1905120"/>
            <a:ext cx="5867280" cy="40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ey Terms on Engla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eat natural harbors – makes it prime for naval supremacy (Armada, WW2), and imperialis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atural resources – coal, tin, timber – sparks Industrial Revolu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-152388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uss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2" name="Picture 5" descr="Terrain"/>
          <p:cNvPicPr/>
          <p:nvPr/>
        </p:nvPicPr>
        <p:blipFill>
          <a:blip r:embed="rId1"/>
          <a:stretch/>
        </p:blipFill>
        <p:spPr>
          <a:xfrm>
            <a:off x="228600" y="2046240"/>
            <a:ext cx="701028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3" name="Object 7"/>
          <p:cNvGraphicFramePr/>
          <p:nvPr/>
        </p:nvGraphicFramePr>
        <p:xfrm>
          <a:off x="5105520" y="0"/>
          <a:ext cx="4038480" cy="3513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4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05520" y="0"/>
                    <a:ext cx="403848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ey Terms on Russ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urAsia – two continen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acks warm water por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locked by Turkey/Ottomans from Black Sea entrance to Mediterranea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ld and Large – difficult to conquer (Napoleon, Hitler) – center area is vast stepp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sed scorched-earth policy to deter invade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acked sufficient oil and natural resources – build Tran-Siberian Railroad to get to Asia; fought Afghanistan War 1979 for oil; refuse to let Chechnya go because of oil ne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ich geographic factor has most strongly influenced Russia’s foreign policies and economic development?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ack of natural resource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ast desert region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imited access to warm-water port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nsive mountain range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Russian steppe is most similar in topography to th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untains in Switzerland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serts in the Middle East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inforests in South America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avannas in Africa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ypical Multiple Choice Question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ocation of countries/physical features – England, India, Vietnam, Japan, Suez Canal, Andes Mountains, Mediterranean Sea etc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ypes of maps – cartographic, physical, politic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eographic feature – archipelago, peninsula, strait, canals, savannah, tundr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terpreting Maps – trade, migr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MPACTS OF </a:t>
            </a:r>
            <a:r>
              <a:rPr b="0" lang="en-US" sz="4400" spc="-1" strike="noStrike">
                <a:solidFill>
                  <a:srgbClr val="ffc000"/>
                </a:solidFill>
                <a:latin typeface="Arial"/>
              </a:rPr>
              <a:t>MOUNTAI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Verdana"/>
              </a:rPr>
              <a:t>DIVIDE PEOPLE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– creates cultural diversity (Andes Mts for Incas, Greece) even isolation (Chin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Verdana"/>
              </a:rPr>
              <a:t>PROTECTS PEOPL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Alps for Italy, Himalayas for China and India, Andes for Inc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Verdana"/>
              </a:rPr>
              <a:t>DIFFICULT TO FARM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– have to introduce </a:t>
            </a:r>
            <a:r>
              <a:rPr b="0" lang="en-US" sz="3200" spc="-1" strike="noStrike">
                <a:solidFill>
                  <a:srgbClr val="ffc000"/>
                </a:solidFill>
                <a:latin typeface="Verdana"/>
              </a:rPr>
              <a:t>terrace farming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– Japan, Incan, Yellow River (Chin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MPACTS OF </a:t>
            </a:r>
            <a:r>
              <a:rPr b="0" lang="en-US" sz="4400" spc="-1" strike="noStrike">
                <a:solidFill>
                  <a:srgbClr val="ffc000"/>
                </a:solidFill>
                <a:latin typeface="Arial"/>
              </a:rPr>
              <a:t>RIV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Verdana"/>
              </a:rPr>
              <a:t>UNITES PEOPLE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– unifies cultures, ease of communication, increases tra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Verdana"/>
              </a:rPr>
              <a:t>HELPS FARMING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– creates fertile soils (early river civs – Nile (Egypt), Mesopotamia, Indus, and Yellow (China), may need to build dams/dykes/irrig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Verdana"/>
              </a:rPr>
              <a:t>SACRE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Ganges (Hindus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MPACTS OF </a:t>
            </a:r>
            <a:r>
              <a:rPr b="0" lang="en-US" sz="4400" spc="-1" strike="noStrike">
                <a:solidFill>
                  <a:srgbClr val="ffc000"/>
                </a:solidFill>
                <a:latin typeface="Arial"/>
              </a:rPr>
              <a:t>DESER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Verdana"/>
              </a:rPr>
              <a:t>DIVIDES PEOPLE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– hard to cross, creates cultural diversity and isolation (Sahara in Afric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Verdana"/>
              </a:rPr>
              <a:t>LACK OF RESOURCES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– no food can cause famines, need for tra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MPACTS OF </a:t>
            </a:r>
            <a:r>
              <a:rPr b="0" lang="en-US" sz="4400" spc="-1" strike="noStrike">
                <a:solidFill>
                  <a:srgbClr val="ffc000"/>
                </a:solidFill>
                <a:latin typeface="Arial"/>
              </a:rPr>
              <a:t>CLIMAT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Verdana"/>
              </a:rPr>
              <a:t>MONSOON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India, China, Indonesia need rains to make food grow – if drought – famine, if floods – famine (build houses on stilts to protect from floods) // monsoon winds also help sailboats to travel Indian Ocea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Verdana"/>
              </a:rPr>
              <a:t>COLD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Russian steppes frozen (permafrost) – can not farm, need special houses, need access to warm water por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MPACTS OF </a:t>
            </a:r>
            <a:r>
              <a:rPr b="0" lang="en-US" sz="4400" spc="-1" strike="noStrike">
                <a:solidFill>
                  <a:srgbClr val="ffc000"/>
                </a:solidFill>
                <a:latin typeface="Arial"/>
              </a:rPr>
              <a:t>NATURAL RESOUR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Verdana"/>
              </a:rPr>
              <a:t>OIL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– needed by many countries like US and Russia – will have to import from Middle East (</a:t>
            </a:r>
            <a:r>
              <a:rPr b="0" lang="en-US" sz="2400" spc="-1" strike="noStrike">
                <a:solidFill>
                  <a:srgbClr val="ffc000"/>
                </a:solidFill>
                <a:latin typeface="Verdana"/>
              </a:rPr>
              <a:t>OPEC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– Organization of Petroleum Exporting Countries) – wars will take place over accessing oil (Afghanistan War, Iran-Iraq War, </a:t>
            </a:r>
            <a:r>
              <a:rPr b="0" lang="en-US" sz="2400" spc="-1" strike="noStrike">
                <a:solidFill>
                  <a:srgbClr val="ffc000"/>
                </a:solidFill>
                <a:latin typeface="Verdana"/>
              </a:rPr>
              <a:t>Persian Gulf War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, etc), </a:t>
            </a:r>
            <a:r>
              <a:rPr b="0" lang="en-US" sz="2400" spc="-1" strike="noStrike">
                <a:solidFill>
                  <a:srgbClr val="ffc000"/>
                </a:solidFill>
                <a:latin typeface="Verdana"/>
              </a:rPr>
              <a:t>Suez Canal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ill be used to access regio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Verdana"/>
              </a:rPr>
              <a:t>LACKING IT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– Japan will have to imperialize China because lacks natural resources and wants to industrializ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Verdana"/>
              </a:rPr>
              <a:t>HAVING IT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– England will dominate Industrial Revolution early on because of access to water, timber, and coal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4343040"/>
            <a:ext cx="4114800" cy="178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hich letter identifies the peninsula that is home to Mecca, the religious center of Islam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1)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3)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2)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4)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1447920" y="152280"/>
            <a:ext cx="6291000" cy="408636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5"/>
          <p:cNvSpPr/>
          <p:nvPr/>
        </p:nvSpPr>
        <p:spPr>
          <a:xfrm>
            <a:off x="4572000" y="449568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46 Which letter identifies the peninsula that was the site of the Vietnam conflict and th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trocities of Pol Pot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1)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3)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2)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4)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ich of these nations is located closet to the Philippines, Malaysia, and Indonesia?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orea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ietnam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malia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akistan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ich feature would most likely appear on a physical map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1) population densiti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2) land usage patter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3) climatic patter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4) mountain rang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geographic similarity between Italy and India is that both of these countries are locat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1) on peninsul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2) on archipelago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3) between two ocea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4) south of the equato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8T11:07:03Z</dcterms:created>
  <dc:creator>Teacher</dc:creator>
  <dc:description/>
  <dc:language>en-US</dc:language>
  <cp:lastModifiedBy>Windows User</cp:lastModifiedBy>
  <dcterms:modified xsi:type="dcterms:W3CDTF">2014-01-23T18:35:10Z</dcterms:modified>
  <cp:revision>28</cp:revision>
  <dc:subject/>
  <dc:title>Geograph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